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492-F080-466C-8474-55D7515A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C59-8D5E-4574-B90F-C4613EE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84E5E-3547-4D5F-AB83-1F7A19B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864DE-2630-4CE9-BE45-8EE431B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D59AEE-B554-4285-8CA7-6A93B7E4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59A59F-E0DA-4D48-8E85-9E6EA608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1B0ED-05E7-4454-BF63-82CD56C5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7EF66-D2C6-46F0-A5DF-097AFF27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49D9DA-A073-4561-B304-FCC4675D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C0318-FBBF-4B96-B281-1675A438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E024A-F0AA-4EEA-8795-93C46A6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4DB6-EBF3-4DAB-87CB-2983FF75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054-B5C8-42B7-97BC-44A08B46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E4780-860F-4885-85A7-CC5EEDBB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39A2-260F-4B21-8B13-CA01E180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D0C59-8DF4-4D79-A428-CFD948F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9C82A-2340-4671-A7E3-8E6A5E3B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C9DA1-CD78-417F-B163-FD5AA47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85FA3-1E05-471B-BEF3-6F24172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4151E-EE31-411D-A1C5-0E664A4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E4FE4-AC6C-430F-B201-C562308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C7CCB-3D89-443A-89F3-1DB4B1C3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AB354-681F-42B8-A4D8-766F925E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B41-F24E-4B54-9316-0D061721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E6F2C-2535-4DB2-8F5E-932AA3CA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7F518-B337-441D-B14B-BC56C2C9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CA56-E351-466A-82C0-C57C034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8FE2D-4C2C-4E61-8A1D-2BAF1E77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13C6D-505C-46DB-9D0C-80CA4ADA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F0923-604E-4640-AE01-3A74D3A6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BB07-9598-478C-8FEA-B53A13C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40347-3507-48D4-B865-A444C2B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C87C0-4065-497B-95A5-74A20B1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A8DC-2202-4CDD-ACFB-B3BD920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7990-B6E9-439A-9754-D9BA3734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6384D-0121-4511-B02F-2329B0F0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BB97-D9F6-43AC-AB70-3F3C22C6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35D51-0A62-411D-A925-9F5F9E0A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062F9-70B3-4B55-A163-61879F45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469F-8843-4107-BE6A-B9086C4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7E132-317D-46B7-ADE3-A7842BC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E5B5-5376-44FA-B584-E62D6651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C93B5-5702-4F16-880E-72762DB3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4BCA-94D3-42AC-A0C5-21787F6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CF0FF-23A9-48D5-8682-AFD0170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B1F0-CFF5-4B30-9139-B2759ED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79739-5BCD-484D-9EFC-C0B862B8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0425B-05C4-4649-8E29-0DA1E32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A507F-5676-444C-A485-B3960A85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C8FE4-453C-4703-9FB0-F159A117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6B804-C2A4-417A-93E4-9485177A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CA9B-1C36-4415-A700-6DBC2280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12E1-A0F2-4704-98F1-B65CEC6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6537-4633-4F0F-B6A6-630030A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A7A8-9E3B-4E20-B5ED-09263E0B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7238-5EAC-4C08-A7E1-A800607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F80-02F7-4709-B5F9-C31E0C3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ADE8-EC56-43E1-B628-BB1E4DA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5FF-79BE-43A6-A89E-844EDDC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207-4250-4AE7-BA78-9D7EEED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12A0-819B-4522-966C-A3274F09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A42-792D-41B0-B072-39F7FC37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E0D2-C2DB-454A-8FD8-64BF6858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6B0CB-CE67-4E44-A945-CD9153F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CEF7-980F-44D3-ADCC-C4D4E08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2D3D-C44E-4A28-8863-2102BB70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08A3-B974-4FCD-A19A-D0E814C3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40E-B0C7-4B9B-944A-F2B019F0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B903-F266-411A-8BF2-458125D8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66AC-0609-4FD2-9CFC-37C38C19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5787-AAB8-4EAE-9702-849732C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5AA0-0414-4B0A-91C9-4617611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4A94-08E3-409F-B114-2724AE1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0E696-AAF8-444B-82B7-94C58521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1ADE-9789-4CA4-BD0D-DA754822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A695F-9F70-43A2-B252-DA6A596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4D39B-6818-407D-9ED9-8C56D671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6139A-9A98-43C2-84FF-BE7DBE0F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295-CF9D-45C2-8C93-4384589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E2C8F-14CA-4B18-97CF-3330959C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647F2-169C-45AF-BDD2-C77CCC3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8EA07-A11B-4CD9-BEF1-3589C42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BE092-9985-48EE-B10E-47EF8FA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4EBBE-B2DB-4068-A19A-6082282B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DEBE3-7D54-4B2D-8256-1B53EB0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BC13D-6059-48AA-9079-7A33E908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879C2-1227-47D2-89CA-F86D2852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05CBE-66BA-48FE-90D5-E441DCF4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947B7-B697-476F-A140-D3AD84D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D7A-B76B-4C60-A7AC-B0A4084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66033-80C3-49DE-A6AD-D2E92955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A0E1B-E10D-4285-9ED9-E70FEA4E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A5D97-8EA4-45FF-BC4C-442F8096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B805B-F9B5-4D42-ADF2-75E2750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B9EC8-587B-483E-8D6D-E09817D4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88E62-B952-41D7-A7BA-E88B450B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29AD2-FC75-4EB9-AEEA-CAB2544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FB6E5-515A-417C-BCC0-F45BF95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532D6-917B-4B0B-9FC3-C7A3DA6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EC696-E7AF-411A-B692-A53BFFB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17D-7AE7-445F-9DD0-3E04515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83CEE-2E85-4687-91E2-5C6A6491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BEE3-C219-458C-BCB9-6A066046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BD12-675C-42DF-9F59-3920541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1168D-1222-4D9A-845E-6F2B3171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64C79-E482-4984-B16F-00CC7C2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02F5-5CC9-475D-99D2-14807E9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3A3C-1798-4974-A6C0-D20AED94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60DF-E2CB-4741-999E-E4AE92D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7067-ADDA-4B8C-BCAC-FFDEBEA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7276C-D76A-4A9D-A96F-EACD5DC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4F2-9006-4A61-856D-10078CA9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4F70-5705-431F-8F14-D403475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DBD6D-D0D1-400D-A991-4CC740B2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85B6-53E9-4495-8EC0-B465B057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036F46-80A3-4569-A0FF-D92421D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40EB41-306F-420B-9578-03191B64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C1906-35E3-43DA-97CE-2B9121F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54233-C403-459E-81CA-C01E67AA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6E7CBC-AF39-4EA3-B922-804730A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41544-C954-4D65-883A-04AC05B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0F414-810C-4149-8CA1-25B2539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791-57AE-47A9-99B4-33337DC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85023-9D07-4B91-BC7F-655A860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30014B-4FC2-48ED-8956-44AD98BE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37E86-8721-4C9D-A6F4-68BD04D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851C37-C248-49FD-B0D2-AFF35806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C7B19A-2D52-45A3-B2A4-C5788917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853FB-8F5D-42A7-859C-BE53BA9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0D24-B5DB-4AB1-A3D9-E1FD2AFB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075A7-C8AA-4079-B1EA-BCADB0E8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AC00-D1D0-49C6-A07F-F2DD0C40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48DEB-9AD5-4690-8834-CBBDC282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8FD-B41D-40BF-9844-7046873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65F4-DCEF-4CDA-AB9B-C3CB208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7495-685F-4E46-9B09-D55F72DF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B8B86-06DA-471F-A3CF-DA9EB638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4C03-C113-4AA5-B653-58D5BE09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B3BBA-D732-4FD0-9F9A-B93F14D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D6CCE-4322-4357-B8BA-A9DD0A1E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43BA-18D4-467F-8AD8-FC7C8BD4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2B9BB5-7FD1-4DEE-BAD3-22BD60E0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14638-4368-4DC2-AF3A-3BE7A84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8FB33-DA40-4F64-9CEB-CA14C81D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1F8-59B9-45A4-8E76-CD107CD8E5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BAF-BD19-4F54-A86D-50A3B8632C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7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4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EF3-6ED7-41E9-B4E9-85B3517E3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2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43F3-E155-4310-98CB-BC88D7B55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8280-8D4E-4CFD-821C-D00BC4B2B5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29E4-6B52-4C74-9318-4C191D0C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67DE-17CC-414A-9C19-CD6AB3F3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262-CF4B-4608-BC14-5B81A48F59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50E-EEDA-49A0-A517-BFCE861D5A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363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8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23DC-6A1C-47E8-81B6-89807953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20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C97-6D1F-4A3F-997A-4F0C22EB0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976-EB42-4FC0-A082-4FDFE4343E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r Alyssa DelCamp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828800" y="457200"/>
            <a:ext cx="56386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as Comida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143964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el desayuno me gusta come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2514600" cy="16794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685800" y="4191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Gof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2133720" y="152280"/>
            <a:ext cx="4419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l Desayun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3581280" y="480060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429000" y="6491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o de Nara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1055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Hue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4952880" y="2362320"/>
            <a:ext cx="1828800" cy="158580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7086600" y="2209680"/>
            <a:ext cx="1838160" cy="171612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73152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Toc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124080" y="4114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Brin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6"/>
          <a:stretch/>
        </p:blipFill>
        <p:spPr>
          <a:xfrm>
            <a:off x="2819520" y="2362320"/>
            <a:ext cx="19810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a el almuerzo me gusta comer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6000" y="1522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 Almuerz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3657600" y="4724280"/>
            <a:ext cx="1627200" cy="167652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3581280" y="6491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Lim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21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3"/>
          <a:stretch/>
        </p:blipFill>
        <p:spPr>
          <a:xfrm>
            <a:off x="4876920" y="2209680"/>
            <a:ext cx="2133360" cy="16480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52578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Sandw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4"/>
          <a:stretch/>
        </p:blipFill>
        <p:spPr>
          <a:xfrm>
            <a:off x="7162920" y="2209680"/>
            <a:ext cx="1780920" cy="160020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7299360" y="45450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3915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Ensal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5"/>
          <a:stretch/>
        </p:blipFill>
        <p:spPr>
          <a:xfrm>
            <a:off x="2666880" y="2286000"/>
            <a:ext cx="2133720" cy="1521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274320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Hambur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la cena me gusta com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86000" y="0"/>
            <a:ext cx="3962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Cen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133360" cy="1598760"/>
          </a:xfrm>
          <a:prstGeom prst="rect">
            <a:avLst/>
          </a:prstGeom>
          <a:ln w="0">
            <a:noFill/>
          </a:ln>
        </p:spPr>
      </p:pic>
      <p:sp>
        <p:nvSpPr>
          <p:cNvPr id="1103" name=""/>
          <p:cNvSpPr/>
          <p:nvPr/>
        </p:nvSpPr>
        <p:spPr>
          <a:xfrm>
            <a:off x="76212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Fi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2133720" cy="159228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312408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3"/>
          <a:stretch/>
        </p:blipFill>
        <p:spPr>
          <a:xfrm>
            <a:off x="5029200" y="21337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52578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Ta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4"/>
          <a:stretch/>
        </p:blipFill>
        <p:spPr>
          <a:xfrm>
            <a:off x="6934320" y="2057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7315200" y="3886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P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5"/>
          <a:stretch/>
        </p:blipFill>
        <p:spPr>
          <a:xfrm>
            <a:off x="3581280" y="4267080"/>
            <a:ext cx="1492200" cy="19051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37339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Le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324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postre me gusta com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2743200" y="304920"/>
            <a:ext cx="3505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l Post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1374840" cy="281952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914400" y="5638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Hel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609640" cy="175284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6629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Fru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429000" y="525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Gall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 txBox="1"/>
          <p:nvPr/>
        </p:nvSpPr>
        <p:spPr>
          <a:xfrm>
            <a:off x="2590920" y="1905120"/>
            <a:ext cx="3504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04:43Z</dcterms:created>
  <dc:creator>delcampoaly</dc:creator>
  <dc:description/>
  <dc:language>en-US</dc:language>
  <cp:lastModifiedBy>delcampoaly</cp:lastModifiedBy>
  <dcterms:modified xsi:type="dcterms:W3CDTF">2011-04-14T18:07:08Z</dcterms:modified>
  <cp:revision>5</cp:revision>
  <dc:subject/>
  <dc:title>Slide 1</dc:title>
</cp:coreProperties>
</file>